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AAF3-C0E5-4D3C-A1C0-158C19A5C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3B15-EA5D-4CE6-99A5-9F2FC9F10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46119-BDE6-4955-A566-4BCDF0BEF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928F-C008-41E3-BE88-9FA327394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A6F8-83B3-4772-9B73-FCEC5A3BC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98E6-D495-4458-91E8-A1B96EAE6B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6718-013E-476B-8F22-9329F02399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1C5A-6082-4EEE-9610-F3D7498874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4A16-0FD6-4E3E-B24A-837950FAE5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1370-B98D-42D8-B057-FCCAE11035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9DBA-3FAA-4E54-8668-87914C920F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86B1-2385-4047-98F4-E07D4F542F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B931-6C60-443E-B04D-658A7BAD19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D9F9-4624-469C-B3D7-96F115EB0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0AA1-91F7-4041-B172-20EB1BA87E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C94C-780B-4949-9B55-FC2BF82489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2752-79EE-4ABE-AAF2-A85E3F156F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7DF4-5232-488A-85F0-5C2135FD12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DAC-B43E-4B4B-BBE8-5758587BE7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258-9218-44BD-A501-F66C5CB5F34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CF6-A958-418E-AD1D-FCDA0B018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267E-A200-4F8C-B0B2-8D222C34EB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737-5FB4-4D64-AE03-E16D0A8582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7F6-E9E6-4093-ADBA-681A6C500D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A26-B30E-4C8C-8672-9AAAB6D2D2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8CD-E6A9-48B8-898C-98EFAD7A60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167-AED8-4615-8F7F-059E667F5F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AA6-F97C-435A-88D3-A785B1E20B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18C-E158-4C80-A587-99A949193C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31C-7C94-45B9-95F5-75CEAC0D3F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577-96FB-4DB1-ACF7-243AE0B316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33AC-DB83-4B2E-950B-E8583E1C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3A8F-C866-4E5D-BE0A-D9A3FE1B5C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0F40-9AD1-4271-9C59-F282D2AEECD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DD556-522E-47CE-B1F2-59E36F41FC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89456-F0A5-4EEF-8236-9738365974E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23CB9-A571-4999-B0D2-8D2095AA43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B61E-EA56-4971-8899-BC34A14C1A6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89E7-D401-45EB-9D9F-D6A2016625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BEF19-6935-49C9-A009-4D305FFBBF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CE4ED-967C-4EB9-81F8-D0B8B6E140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67BD4-476E-46BB-9016-E20DC88FBE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C4959-C9D9-46E3-94D7-28C099FE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8784-EA74-4AED-A480-7AEBCFA947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63CC-C672-4373-8B4D-04C4004E60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CE27-D6CB-47CE-A28B-DD6E4427AD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74F6A-59D0-420D-86F1-B30078DA7A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E5497-0C18-45CC-9CCE-6238AEE11C3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84B96-2088-4E41-AD6C-6AF7B30FEC9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5BF7-355A-4746-8645-C65E40DE19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00F04-642A-4A2C-B162-48CAC5D9FE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53C1E-5C7B-42DE-B23F-E4969E78CE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2F07-642A-4427-B5F2-D9D0D4FAC5F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00921-9733-4E35-88CD-3910ED743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50BB-5EB8-477E-BCC1-16782E71A4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8D246-F3FD-48F0-90D3-5589B2C358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BBBE2-5721-4CF2-B411-1D2DCEE4909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78F54-B4E9-438B-843C-86FD9B100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E3F3-34CF-4296-824A-4C38C3582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FA9F-683A-4E32-9047-B2B2C7CF3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B850-0A37-4118-B07E-A6CF796FAE8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D8E7-A332-4C3D-82BD-DD2E7CD09AC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A21-AC10-4B71-94EC-4DF4CD0B773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71FF-75A1-4E7C-B8BF-836F09033A3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70E-6554-47EC-B0B0-CC684CEB09E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86000"/>
            <a:ext cx="498132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1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411960" cy="198108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A93-AFFC-4B09-8DC7-087D6FF394E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65530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efined nam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 name assigned to a single cell or to a group of cel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defined name is also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range nam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r 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named rang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976320" y="1828800"/>
            <a:ext cx="763416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range names for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are easier to remember than cell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572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Use Named R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605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8" name="Rectangle 2" descr=""/>
          <p:cNvPicPr/>
          <p:nvPr/>
        </p:nvPicPr>
        <p:blipFill>
          <a:blip r:embed="rId2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143000" y="1981080"/>
            <a:ext cx="6934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make formulas easy to under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may be less likely to make an error selecting a range name than by keying a cell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60948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y Use Named Ran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2362320" y="4749840"/>
            <a:ext cx="43434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=SUM(Weekly_S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07920" y="225360"/>
            <a:ext cx="854712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gin cell range names with a lette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single-letter range names, such as “n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range names that resemble cell addresses, such as “A5.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ep range names relatively sho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uppercase letters, an underscore, or a period to separate words. Do not use spac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 not use special characters such as hyphens (-) or symbols ($, %, &amp;, #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5" descr=""/>
          <p:cNvPicPr/>
          <p:nvPr/>
        </p:nvPicPr>
        <p:blipFill>
          <a:blip r:embed="rId1"/>
          <a:stretch/>
        </p:blipFill>
        <p:spPr>
          <a:xfrm>
            <a:off x="817560" y="-6480"/>
            <a:ext cx="8515440" cy="11588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736452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Name Box, key the range name, and press [Enter]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Define Name button           on the Formulas tab. Key the range name and click OK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Name Manager button          on the Formulas tab. Click New, key the range name, and click OK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457200" y="12952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efine a range name with any of these metho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566640" cy="56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6453360" y="4343400"/>
            <a:ext cx="483840" cy="48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8929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3405" t="10727" r="14538" b="14475"/>
          <a:stretch/>
        </p:blipFill>
        <p:spPr>
          <a:xfrm>
            <a:off x="1927080" y="1676520"/>
            <a:ext cx="569304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FAF5-42BD-4406-9256-06E8EC3C616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36080" cy="115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580248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0" name="TextBox 4"/>
          <p:cNvSpPr/>
          <p:nvPr/>
        </p:nvSpPr>
        <p:spPr>
          <a:xfrm>
            <a:off x="2286000" y="1371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name several ranges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9907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ange names can be deleted. If you delete a name that is referenced in a formula, the formula cell shows #NA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rcRect l="18658" t="19503" r="18806" b="16019"/>
          <a:stretch/>
        </p:blipFill>
        <p:spPr>
          <a:xfrm>
            <a:off x="2209680" y="2359080"/>
            <a:ext cx="5029200" cy="38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7997760" cy="11588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762120" y="1828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define a new range name, you can specify if it pertains to a particular sheet or to the workbook. Th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range name’s location applic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5"/>
          <p:cNvGrpSpPr/>
          <p:nvPr/>
        </p:nvGrpSpPr>
        <p:grpSpPr>
          <a:xfrm>
            <a:off x="4532400" y="1905120"/>
            <a:ext cx="4165560" cy="3200400"/>
            <a:chOff x="4532400" y="1905120"/>
            <a:chExt cx="4165560" cy="3200400"/>
          </a:xfrm>
        </p:grpSpPr>
        <p:pic>
          <p:nvPicPr>
            <p:cNvPr id="357" name="Picture 2" descr=""/>
            <p:cNvPicPr/>
            <p:nvPr/>
          </p:nvPicPr>
          <p:blipFill>
            <a:blip r:embed="rId2"/>
            <a:stretch/>
          </p:blipFill>
          <p:spPr>
            <a:xfrm>
              <a:off x="4532400" y="1905120"/>
              <a:ext cx="416556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8" name="Oval 4"/>
            <p:cNvSpPr/>
            <p:nvPr/>
          </p:nvSpPr>
          <p:spPr>
            <a:xfrm>
              <a:off x="4647600" y="2666880"/>
              <a:ext cx="2743920" cy="457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6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5D1-985F-488F-80AE-35CD348FCA2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7"/>
          <p:cNvSpPr/>
          <p:nvPr/>
        </p:nvSpPr>
        <p:spPr>
          <a:xfrm>
            <a:off x="990720" y="1295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key a display trigger, range names and functions appear in Formula AutoComplete. 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isplay trigger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the first character in the range (or function)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2268360" y="2590920"/>
            <a:ext cx="49705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914400" y="1379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redefine cells in a defined name. You can also change the name. Use the Name Manager dialog box for these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5778360" y="3276720"/>
            <a:ext cx="313704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838080" y="2590920"/>
            <a:ext cx="423396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69" name="Elbow Connector 8"/>
          <p:cNvCxnSpPr/>
          <p:nvPr/>
        </p:nvCxnSpPr>
        <p:spPr>
          <a:xfrm>
            <a:off x="5028840" y="3276360"/>
            <a:ext cx="76284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370" name="Oval 9"/>
          <p:cNvSpPr/>
          <p:nvPr/>
        </p:nvSpPr>
        <p:spPr>
          <a:xfrm>
            <a:off x="1447920" y="2819520"/>
            <a:ext cx="6858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DD3B-4AEB-4A3F-BA85-789CAE091BF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838080" y="1495440"/>
            <a:ext cx="2205000" cy="229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3498840" y="3276720"/>
            <a:ext cx="221616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7" name="Picture 5" descr=""/>
          <p:cNvPicPr/>
          <p:nvPr/>
        </p:nvPicPr>
        <p:blipFill>
          <a:blip r:embed="rId4"/>
          <a:stretch/>
        </p:blipFill>
        <p:spPr>
          <a:xfrm>
            <a:off x="6338880" y="4267080"/>
            <a:ext cx="2195640" cy="19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8" name="TextBox 6"/>
          <p:cNvSpPr/>
          <p:nvPr/>
        </p:nvSpPr>
        <p:spPr>
          <a:xfrm>
            <a:off x="3505320" y="1722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cel function categories indicate the use and purpose of th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1600200" y="145584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IF is in the Math &amp; Trig category. It sums a range of cells based on a particular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61750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6"/>
          <p:cNvSpPr/>
          <p:nvPr/>
        </p:nvSpPr>
        <p:spPr>
          <a:xfrm>
            <a:off x="990720" y="14558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VERAGEIF is in the Statistical category. It calculates the arithmetic mean for a range of cells based on a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1557360" y="2514600"/>
            <a:ext cx="63673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5928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258-414D-4602-B4EF-49CC4760885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832520" cy="9018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1905120" y="13716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MT is from the Financial category. It calculates a payment for money 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" descr=""/>
          <p:cNvPicPr/>
          <p:nvPr/>
        </p:nvPicPr>
        <p:blipFill>
          <a:blip r:embed="rId2"/>
          <a:stretch/>
        </p:blipFill>
        <p:spPr>
          <a:xfrm>
            <a:off x="1523880" y="2357280"/>
            <a:ext cx="6351840" cy="389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8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5CF4-A938-412E-9068-6ABA638F690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4299120" y="1905120"/>
            <a:ext cx="4235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3" name="TextBox 4"/>
          <p:cNvSpPr/>
          <p:nvPr/>
        </p:nvSpPr>
        <p:spPr>
          <a:xfrm>
            <a:off x="762120" y="182880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named value. It is created from the New Name dialog box. It can be used like any defined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685800" y="175248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paste a list of range names and constants as documentation. Use the Use in Formula button         or from the Paste Name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365040" cy="365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97" name="Group 8"/>
          <p:cNvGrpSpPr/>
          <p:nvPr/>
        </p:nvGrpSpPr>
        <p:grpSpPr>
          <a:xfrm>
            <a:off x="5029200" y="1752480"/>
            <a:ext cx="3714840" cy="3672000"/>
            <a:chOff x="5029200" y="1752480"/>
            <a:chExt cx="3714840" cy="3672000"/>
          </a:xfrm>
        </p:grpSpPr>
        <p:pic>
          <p:nvPicPr>
            <p:cNvPr id="398" name="Picture 2" descr=""/>
            <p:cNvPicPr/>
            <p:nvPr/>
          </p:nvPicPr>
          <p:blipFill>
            <a:blip r:embed="rId3"/>
            <a:stretch/>
          </p:blipFill>
          <p:spPr>
            <a:xfrm>
              <a:off x="5029200" y="1752480"/>
              <a:ext cx="3714840" cy="367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9" name="Oval 5"/>
            <p:cNvSpPr/>
            <p:nvPr/>
          </p:nvSpPr>
          <p:spPr>
            <a:xfrm>
              <a:off x="5181480" y="4114800"/>
              <a:ext cx="14763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6"/>
            <p:cNvSpPr/>
            <p:nvPr/>
          </p:nvSpPr>
          <p:spPr>
            <a:xfrm>
              <a:off x="7413120" y="4090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e392d"/>
                  </a:solidFill>
                  <a:latin typeface="Corbel"/>
                </a:rPr>
                <a:t>Con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1" name="Straight Arrow Connector 10"/>
            <p:cNvCxnSpPr/>
            <p:nvPr/>
          </p:nvCxnSpPr>
          <p:spPr>
            <a:xfrm flipH="1">
              <a:off x="6723720" y="4214880"/>
              <a:ext cx="72504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600200" y="2743200"/>
            <a:ext cx="6019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Group the sheets with the data to be copied on top and visi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Fill button         in the Editing group on the Home tab and choose Across Worksheet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5168880" y="3645000"/>
            <a:ext cx="433440" cy="43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405" name="TextBox 4"/>
          <p:cNvSpPr/>
          <p:nvPr/>
        </p:nvSpPr>
        <p:spPr>
          <a:xfrm>
            <a:off x="609480" y="1295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copy selected data from one worksheet to another when sheets are grou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68016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8" name="TextBox 4"/>
          <p:cNvSpPr/>
          <p:nvPr/>
        </p:nvSpPr>
        <p:spPr>
          <a:xfrm>
            <a:off x="5181480" y="5172120"/>
            <a:ext cx="22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elected data on Procedures sheet will be copied to Sheet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1752480" y="6041880"/>
            <a:ext cx="762120" cy="130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8"/>
          <p:cNvSpPr/>
          <p:nvPr/>
        </p:nvSpPr>
        <p:spPr>
          <a:xfrm>
            <a:off x="3103560" y="6033960"/>
            <a:ext cx="762120" cy="130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41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1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E192-A0E2-4F2C-9872-396F4C7F080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07560" cy="1158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"/>
          <p:cNvSpPr/>
          <p:nvPr/>
        </p:nvSpPr>
        <p:spPr>
          <a:xfrm>
            <a:off x="685800" y="160020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icon set is data visualization with a group of three to five images that appear with or without a value in a range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0385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3276720" y="1600200"/>
            <a:ext cx="5400720" cy="45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Box 3"/>
          <p:cNvSpPr/>
          <p:nvPr/>
        </p:nvSpPr>
        <p:spPr>
          <a:xfrm>
            <a:off x="762120" y="167652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con sets are based on rules that can be ed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nd functions are calculations, and the names can be used interchangeably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user-created; functions are built-in and follow specific syntax or ru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rguments for a function or formula can be cell addresses, named ranges, constants, or another func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l Excel functions hav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yntax defines the parts of a function and the order of those par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1" descr=""/>
          <p:cNvPicPr/>
          <p:nvPr/>
        </p:nvPicPr>
        <p:blipFill>
          <a:blip r:embed="rId2"/>
          <a:stretch/>
        </p:blipFill>
        <p:spPr>
          <a:xfrm>
            <a:off x="2133720" y="3124080"/>
            <a:ext cx="50292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142640" y="190476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the Insert Function command to place built-in functions in the workshee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unction Arguments dialog box provides help in choosing the argumen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key a function name, Formula AutoComplete and ScreenTips appear to provide guidance in building the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294920" y="182880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ultiple arguments in a function are separated by comm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unctions ignore text, blank cells, error values (#NAME?), and logical values (TRUE or FALS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range of cells can be defined with a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range names rather than cell addresses for navigation and in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formula, key the first character of a range name to see existing names listed in Formula AutoComple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must begin with a letter, cannot use spaces or special characters, and should be short and descriptiv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can be deleted, changed, or redefin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 can be scoped to the workbook or to a particular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paste a table of range names and cell references on the worksheet for document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tegories classify Excel functions based on use and purpose. Some categories include sophisticated scientific, engineering, and business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UMIF and the AVERAGEIF functions add and average values only if they meet criteria specified in the argume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nancial function category includes PMT, which is used to calculate regular payments for money ow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nstant is a named value. It is a value that does not ch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nstant name appears like a defined name in the Name Manager dialog box and in Formula AutoComple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447560" y="1904760"/>
            <a:ext cx="64767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con set is data visualization that displays an image at the left edge of the cell based on the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con sets can use three, four, or five images to represent the val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295280" y="2209680"/>
            <a:ext cx="6934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references (individual cells or a rang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tants (a keyed valu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other function (a nested functio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 na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31440" y="1447920"/>
            <a:ext cx="55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 argument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81184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1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C0D-2017-476D-8BB5-6F682A55E9E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6"/>
          <p:cNvSpPr/>
          <p:nvPr/>
        </p:nvSpPr>
        <p:spPr>
          <a:xfrm>
            <a:off x="685800" y="189396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fter you key a letter or two, you’ll see a list of functions that begin with those letters in Formula Auto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3430440" y="1981080"/>
            <a:ext cx="548496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27892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6"/>
          <p:cNvSpPr/>
          <p:nvPr/>
        </p:nvSpPr>
        <p:spPr>
          <a:xfrm>
            <a:off x="762120" y="1600200"/>
            <a:ext cx="2514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s you key or select arguments, an Argument ScreenTip shows the syntax with the argument to be entered next in b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7:43Z</dcterms:modified>
  <cp:revision>80</cp:revision>
  <dc:subject/>
  <dc:title>Microsoft office</dc:title>
</cp:coreProperties>
</file>